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E440-5184-421E-9F04-D9CDD4FB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8373-64A2-4DD0-B8D4-FAD3AEFF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C219-3CB1-4218-8989-9844A3654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4F10-9954-4325-B2D7-7FEC42827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A0BF-333A-451C-9C3D-6C10C718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5FC9-B204-459F-892E-35D56CBF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42AE-45C9-4B29-8039-7FC6372D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5C6A-57E0-48E6-B71A-A41C6BE9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153B-D6B6-4FEA-A971-C881E6EE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1179-13F9-4419-88DB-3D90569E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D253-478F-407E-B6CF-AAF457C4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DEE8-57F7-4B84-A930-0A114096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30D4-1416-4A37-BDF4-EA9C68D56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19520" y="574560"/>
            <a:ext cx="228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lly Hors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Vadim Lev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47720" y="1870200"/>
            <a:ext cx="630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horse has four shoes with black rubber sol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 of them new, but the others have ho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21520" y="3013200"/>
            <a:ext cx="611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weather is fair, no rain in the new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horse likes to wear her best pair of sho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7480" y="4308480"/>
            <a:ext cx="685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the first wave of snowflakes whirls in the ai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e goes home to change to a worn-out p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73800" y="803160"/>
            <a:ext cx="652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it’s muddy or icy, and folks slip and slid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horse still goes out, but the shoes stay in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50840" y="1905120"/>
            <a:ext cx="563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lly horse, don’t be concerned for a sho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n’t your health more important to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33720" y="2743200"/>
            <a:ext cx="3733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430280" y="3089160"/>
            <a:ext cx="614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 your favorite pair of shoes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are they your favorite pa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06600" y="407988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do new shoes feel on your feet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cribe the feeling in words to a part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5146560"/>
            <a:ext cx="674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do old, worn out shoes feel on your fe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 you think shoes HEAR, FEEL, SMEL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STE, and TOUCH in a day on your fe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47920" y="609480"/>
            <a:ext cx="3124080" cy="2438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029200" y="457200"/>
            <a:ext cx="32004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1T08:01:48Z</dcterms:created>
  <dc:creator>User</dc:creator>
  <dc:description/>
  <dc:language>en-US</dc:language>
  <cp:lastModifiedBy>Rutherford County Schools</cp:lastModifiedBy>
  <dcterms:modified xsi:type="dcterms:W3CDTF">2007-04-22T18:56:40Z</dcterms:modified>
  <cp:revision>3</cp:revision>
  <dc:subject/>
  <dc:title>No Slide Title</dc:title>
</cp:coreProperties>
</file>